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7F5B-49BD-405D-A2A2-14077952F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61B0-7E6B-423A-AC74-07633917F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C484-D0D7-4E6D-9E9D-3E17A7D1D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0CF7-868C-420C-BC42-A13E3F261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9622-CAB2-4108-A218-F232A4B81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65BB-7932-454A-B9CF-0292AA69A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31B1-5AF5-4295-B5B2-347232DB9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52D3-6D2E-4FA3-84C3-7865FB8CC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DAEB-BC2F-4ED8-ADA8-15A6E02D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BB9D-E32C-4FFE-9848-E0BA7A28D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633-67B6-45B8-B590-D50DA2CF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F97-CFA2-4DB2-ADC4-F30757F8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90E4-27BB-46D6-85FF-9E49ED08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6AFE-B1EA-49C2-B51E-2B946AE2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46BC-D3EB-4D1B-86A9-8CA9B52F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46E2-E27D-4789-9A3E-160C5CAC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9D7D-1DDB-45F8-B941-0CD61868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BC12-D2B9-4892-963E-F3BC404F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4C80-7B0A-4794-A9A1-2925C5AE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B4F7-1424-4C42-ABCE-5BB93FD4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EB92-6960-4840-8533-56783587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B12-97B7-4896-9221-333A46FD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149B-22BA-4280-B4CA-550D9FAA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687A-EE12-4D40-9289-BD3D4DA9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C266-6EE4-41C9-80D6-3F5CA712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0A6D-0AE7-479D-847A-2CB9D072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3FCB-E913-4ABF-A991-92BD2D5F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CE1-D2E1-4EF6-9B23-E5EF6B46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C88-AE12-44D4-AF2F-215BB14E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89C0-9D9F-48B3-962A-011980E8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824-20C7-4F19-B1D1-0975179E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34F-555B-4AFB-A605-5D51A015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8127-C0FB-4F24-8E93-2290BEE2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D2D-79B0-4727-835C-8593A865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C7C5-9C8A-4ECC-AB6A-CFE872D6FB4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单圆角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799B-B629-4778-B990-8F80862BEE9E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2"/>
          <p:cNvSpPr txBox="1"/>
          <p:nvPr/>
        </p:nvSpPr>
        <p:spPr>
          <a:xfrm>
            <a:off x="1752480" y="685800"/>
            <a:ext cx="2286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科学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0" name="Line 3"/>
          <p:cNvSpPr/>
          <p:nvPr/>
        </p:nvSpPr>
        <p:spPr>
          <a:xfrm>
            <a:off x="971640" y="2205000"/>
            <a:ext cx="7200720" cy="0"/>
          </a:xfrm>
          <a:prstGeom prst="line">
            <a:avLst/>
          </a:prstGeom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4648320" y="1628640"/>
            <a:ext cx="34527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四年级下册</a:t>
            </a:r>
            <a:endParaRPr b="0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2" name="WordArt 5"/>
          <p:cNvSpPr txBox="1"/>
          <p:nvPr/>
        </p:nvSpPr>
        <p:spPr>
          <a:xfrm>
            <a:off x="457200" y="152280"/>
            <a:ext cx="1371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教科版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286000" y="357192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Arial"/>
              </a:rPr>
              <a:t>电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4000680" y="3571920"/>
            <a:ext cx="392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Arial"/>
              </a:rPr>
              <a:t>出故障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爆炸形 2 2"/>
          <p:cNvSpPr/>
          <p:nvPr/>
        </p:nvSpPr>
        <p:spPr>
          <a:xfrm>
            <a:off x="357120" y="214200"/>
            <a:ext cx="3714840" cy="2643480"/>
          </a:xfrm>
          <a:prstGeom prst="irregularSeal2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TextBox 3" descr=""/>
          <p:cNvPicPr/>
          <p:nvPr/>
        </p:nvPicPr>
        <p:blipFill>
          <a:blip r:embed="rId2"/>
          <a:stretch/>
        </p:blipFill>
        <p:spPr>
          <a:xfrm>
            <a:off x="811080" y="938160"/>
            <a:ext cx="2907000" cy="11397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4"/>
          <p:cNvSpPr/>
          <p:nvPr/>
        </p:nvSpPr>
        <p:spPr>
          <a:xfrm>
            <a:off x="571680" y="32148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不能</a:t>
            </a:r>
            <a:r>
              <a:rPr b="1" lang="zh-CN" sz="5400" spc="-1" strike="noStrike">
                <a:solidFill>
                  <a:srgbClr val="002060"/>
                </a:solidFill>
                <a:latin typeface="黑体"/>
                <a:ea typeface="黑体"/>
              </a:rPr>
              <a:t>用“电路检测器”检测家用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220V</a:t>
            </a:r>
            <a:r>
              <a:rPr b="1" lang="zh-CN" sz="5400" spc="-1" strike="noStrike">
                <a:solidFill>
                  <a:srgbClr val="002060"/>
                </a:solidFill>
                <a:latin typeface="黑体"/>
                <a:ea typeface="黑体"/>
              </a:rPr>
              <a:t>的电器电路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838080" y="207324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验时小组要分工合作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声讨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28800" y="314496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边实验边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记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WordArt 5" descr=""/>
          <p:cNvPicPr/>
          <p:nvPr/>
        </p:nvPicPr>
        <p:blipFill>
          <a:blip r:embed="rId2"/>
          <a:stretch/>
        </p:blipFill>
        <p:spPr>
          <a:xfrm>
            <a:off x="768240" y="743040"/>
            <a:ext cx="3035520" cy="993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914400" y="40323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检测出故障的元件到老师处更换好的元件，最终使电路中的小灯泡亮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>
            <a:hlinkClick r:id="rId3" action="ppaction://hlinksldjump"/>
          </p:cNvPr>
          <p:cNvSpPr/>
          <p:nvPr/>
        </p:nvSpPr>
        <p:spPr>
          <a:xfrm>
            <a:off x="8763120" y="6477120"/>
            <a:ext cx="228600" cy="380880"/>
          </a:xfrm>
          <a:prstGeom prst="pie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376200" y="928800"/>
          <a:ext cx="8410680" cy="5824440"/>
        </p:xfrm>
        <a:graphic>
          <a:graphicData uri="http://schemas.openxmlformats.org/drawingml/2006/table">
            <a:tbl>
              <a:tblPr/>
              <a:tblGrid>
                <a:gridCol w="1300320"/>
                <a:gridCol w="1103040"/>
                <a:gridCol w="1203480"/>
                <a:gridCol w="1197000"/>
                <a:gridCol w="1203120"/>
                <a:gridCol w="1200240"/>
                <a:gridCol w="12034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被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物体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检测表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泡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其他原因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们的发现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路中有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处故障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是</a:t>
                      </a:r>
                      <a:r>
                        <a:rPr b="1" lang="zh-CN" sz="28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  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故障了，使电流中断，灯泡不亮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Text Box 68"/>
          <p:cNvSpPr/>
          <p:nvPr/>
        </p:nvSpPr>
        <p:spPr>
          <a:xfrm>
            <a:off x="457200" y="-30492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 们 的 检 测 记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小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（用“√”在相应的地方表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1000080" y="2571840"/>
            <a:ext cx="77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Arial"/>
                <a:ea typeface="楷体_GB2312"/>
              </a:rPr>
              <a:t>练一练：课堂检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428760" y="2070360"/>
            <a:ext cx="82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填空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（          ）从电池的一端经导线流出，通过小灯泡，回到电池的另一端，形成一个完整的（           ），小灯泡就会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当电池的两端被电线直接连接在一起时，就会发生（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利用电来点亮小灯泡需要一个完整的电流（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、电路出故障了，电流就会（                     ）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500120" y="157176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电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714680" y="25588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2428920" y="35002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1000080" y="450072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回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5857920" y="49878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路或断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"/>
          <p:cNvSpPr/>
          <p:nvPr/>
        </p:nvSpPr>
        <p:spPr>
          <a:xfrm>
            <a:off x="571680" y="1701360"/>
            <a:ext cx="828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选择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家用电器的电压一般是（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5V  B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V   C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50V   D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20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检测一根电线，用电路检测器的两个检测头和一根电线的两端相连接，如果小灯泡亮了，就说明这根电线没有问题；反之，则说明这根电线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没有故障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出现故障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不是导体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无法判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会产生触电事故，致人死亡的是（   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5V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干电池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6V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电瓶车铅酸电池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20V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家用插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"/>
          <p:cNvSpPr/>
          <p:nvPr/>
        </p:nvSpPr>
        <p:spPr>
          <a:xfrm>
            <a:off x="4357800" y="185724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3"/>
          <p:cNvSpPr/>
          <p:nvPr/>
        </p:nvSpPr>
        <p:spPr>
          <a:xfrm>
            <a:off x="4000680" y="36910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5643720" y="476244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3"/>
          <p:cNvSpPr txBox="1"/>
          <p:nvPr/>
        </p:nvSpPr>
        <p:spPr>
          <a:xfrm>
            <a:off x="1714680" y="1857240"/>
            <a:ext cx="53337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宋体"/>
              </a:rPr>
              <a:t>小科学家们，请整理好实验器材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宋体"/>
              <a:ea typeface="宋体"/>
            </a:endParaRPr>
          </a:p>
        </p:txBody>
      </p:sp>
    </p:spTree>
  </p:cSld>
  <p:transition spd="slow">
    <p:circl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9"/>
          <p:cNvSpPr/>
          <p:nvPr/>
        </p:nvSpPr>
        <p:spPr>
          <a:xfrm>
            <a:off x="642960" y="121428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：要使电路中的小灯泡发光，整个电路应该处于什么状态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0"/>
          <p:cNvSpPr/>
          <p:nvPr/>
        </p:nvSpPr>
        <p:spPr>
          <a:xfrm>
            <a:off x="1071720" y="257184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个电路有些地方有断开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11"/>
          <p:cNvSpPr/>
          <p:nvPr/>
        </p:nvSpPr>
        <p:spPr>
          <a:xfrm>
            <a:off x="1071720" y="314316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整个电路形成完整的回路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1071720" y="3143160"/>
            <a:ext cx="57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整个电路形成完整的回路的时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3"/>
          <p:cNvSpPr/>
          <p:nvPr/>
        </p:nvSpPr>
        <p:spPr>
          <a:xfrm>
            <a:off x="1130760" y="4000680"/>
            <a:ext cx="1155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简单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右箭头 14"/>
          <p:cNvSpPr/>
          <p:nvPr/>
        </p:nvSpPr>
        <p:spPr>
          <a:xfrm>
            <a:off x="2571840" y="4786200"/>
            <a:ext cx="42840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39aa1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43" descr="电路图.png"/>
          <p:cNvPicPr/>
          <p:nvPr/>
        </p:nvPicPr>
        <p:blipFill>
          <a:blip r:embed="rId2"/>
          <a:stretch/>
        </p:blipFill>
        <p:spPr>
          <a:xfrm>
            <a:off x="3214800" y="4000680"/>
            <a:ext cx="3435120" cy="2000160"/>
          </a:xfrm>
          <a:prstGeom prst="rect">
            <a:avLst/>
          </a:prstGeom>
          <a:ln w="0">
            <a:noFill/>
          </a:ln>
        </p:spPr>
      </p:pic>
      <p:sp>
        <p:nvSpPr>
          <p:cNvPr id="162" name="椭圆 44"/>
          <p:cNvSpPr/>
          <p:nvPr/>
        </p:nvSpPr>
        <p:spPr>
          <a:xfrm>
            <a:off x="5072040" y="5643720"/>
            <a:ext cx="142920" cy="71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流程图: 汇总连接 45"/>
          <p:cNvSpPr/>
          <p:nvPr/>
        </p:nvSpPr>
        <p:spPr>
          <a:xfrm>
            <a:off x="4429080" y="4143240"/>
            <a:ext cx="428760" cy="428760"/>
          </a:xfrm>
          <a:prstGeom prst="flowChartSummingJunction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5121 -0.00578 0.07777 -0.00671 0.13889 -0.00879 C 0.13819 -0.02498 0.13645 -0.04093 0.13645 -0.05712 C 0.13645 -0.06406 0.1368 -0.071 0.13767 -0.07794 C 0.13819 -0.08164 0.14027 -0.08834 0.14027 -0.08834 C 0.13871 -0.2123 0.16371 -0.2019 0.09357 -0.19912 C 0.0684 -0.19218 0.04791 -0.1938 0.01944 -0.19218 C -0.00851 -0.1864 -0.03698 -0.19103 -0.06493 -0.1938 C -0.06875 -0.19565 -0.07275 -0.19727 -0.07657 -0.19912 C -0.0816 -0.19843 -0.09167 -0.19426 -0.0974 -0.1938 C -0.12726 -0.19195 -0.15712 -0.19172 -0.18698 -0.19033 C -0.20521 -0.18293 -0.19045 -0.14246 -0.18837 -0.12118 C -0.18872 -0.08418 -0.18889 -0.04741 -0.18959 -0.01041 C -0.18976 -0.00578 -0.1941 0.00139 -0.19098 0.00347 C -0.18941 0.0044 -0.14636 -0.00139 -0.14289 -0.00185 C -0.10434 -0.00023 -0.06858 0.00347 -0.02986 0.00347 E">
                                      <p:cBhvr>
                                        <p:cTn id="44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1214280" y="1357200"/>
            <a:ext cx="62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科学猜想：电路中可能什么地方出故障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571680" y="7142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活动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"/>
          <p:cNvSpPr/>
          <p:nvPr/>
        </p:nvSpPr>
        <p:spPr>
          <a:xfrm>
            <a:off x="1928880" y="200016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猜想小灯泡不亮的原因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1285920" y="2857680"/>
            <a:ext cx="5786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_______________________2.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_______________________4.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5"/>
          <p:cNvSpPr/>
          <p:nvPr/>
        </p:nvSpPr>
        <p:spPr>
          <a:xfrm>
            <a:off x="1857240" y="2928960"/>
            <a:ext cx="48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小灯泡坏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1785960" y="3429000"/>
            <a:ext cx="37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灯座松了，没有连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1785960" y="392904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导线断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1785960" y="439596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Arial"/>
              </a:rPr>
              <a:t>电池没电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642960" y="85716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Arial"/>
              </a:rPr>
              <a:t>想一想：用什么办法来检测有故障的电路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928800" y="18572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检查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1643040" y="242892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检查电路中的连接是否完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857160" y="292896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替换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1285920" y="3598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用另外的灯泡、电池、导线等来替换电路中的材料，看看小灯泡是否能点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857160" y="450072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检测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1714680" y="507204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用仪器检测电路中的故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1000080" y="78588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做一做：做个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2" descr="dianlu2.jpg"/>
          <p:cNvPicPr/>
          <p:nvPr/>
        </p:nvPicPr>
        <p:blipFill>
          <a:blip r:embed="rId2"/>
          <a:stretch/>
        </p:blipFill>
        <p:spPr>
          <a:xfrm>
            <a:off x="928800" y="1643040"/>
            <a:ext cx="70722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401d"/>
          <p:cNvPicPr/>
          <p:nvPr/>
        </p:nvPicPr>
        <p:blipFill>
          <a:blip r:embed="rId2"/>
          <a:stretch/>
        </p:blipFill>
        <p:spPr>
          <a:xfrm>
            <a:off x="1071720" y="1357200"/>
            <a:ext cx="6858000" cy="51436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4"/>
          <p:cNvGrpSpPr/>
          <p:nvPr/>
        </p:nvGrpSpPr>
        <p:grpSpPr>
          <a:xfrm>
            <a:off x="5000760" y="3733920"/>
            <a:ext cx="1218600" cy="838080"/>
            <a:chOff x="5000760" y="3733920"/>
            <a:chExt cx="1218600" cy="838080"/>
          </a:xfrm>
        </p:grpSpPr>
        <p:sp>
          <p:nvSpPr>
            <p:cNvPr id="183" name="Oval 5"/>
            <p:cNvSpPr/>
            <p:nvPr/>
          </p:nvSpPr>
          <p:spPr>
            <a:xfrm>
              <a:off x="5000760" y="4013280"/>
              <a:ext cx="947160" cy="558720"/>
            </a:xfrm>
            <a:prstGeom prst="ellipse">
              <a:avLst/>
            </a:prstGeom>
            <a:noFill/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6"/>
            <p:cNvSpPr/>
            <p:nvPr/>
          </p:nvSpPr>
          <p:spPr>
            <a:xfrm flipV="1">
              <a:off x="5677560" y="3733920"/>
              <a:ext cx="541800" cy="27936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7"/>
          <p:cNvSpPr/>
          <p:nvPr/>
        </p:nvSpPr>
        <p:spPr>
          <a:xfrm>
            <a:off x="1457280" y="5072040"/>
            <a:ext cx="19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检测头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3429720" y="5486040"/>
            <a:ext cx="1294560" cy="762120"/>
            <a:chOff x="3429720" y="5486040"/>
            <a:chExt cx="1294560" cy="762120"/>
          </a:xfrm>
        </p:grpSpPr>
        <p:sp>
          <p:nvSpPr>
            <p:cNvPr id="187" name="Oval 9"/>
            <p:cNvSpPr/>
            <p:nvPr/>
          </p:nvSpPr>
          <p:spPr>
            <a:xfrm flipH="1">
              <a:off x="3717720" y="5740200"/>
              <a:ext cx="1006560" cy="507960"/>
            </a:xfrm>
            <a:prstGeom prst="ellipse">
              <a:avLst/>
            </a:prstGeom>
            <a:noFill/>
            <a:ln w="5724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 flipH="1" flipV="1">
              <a:off x="3429720" y="5486040"/>
              <a:ext cx="575640" cy="253800"/>
            </a:xfrm>
            <a:prstGeom prst="line">
              <a:avLst/>
            </a:prstGeom>
            <a:ln w="7632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1"/>
          <p:cNvSpPr/>
          <p:nvPr/>
        </p:nvSpPr>
        <p:spPr>
          <a:xfrm>
            <a:off x="6477120" y="3276720"/>
            <a:ext cx="20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黑体"/>
              </a:rPr>
              <a:t>检测头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1"/>
          <p:cNvSpPr/>
          <p:nvPr/>
        </p:nvSpPr>
        <p:spPr>
          <a:xfrm>
            <a:off x="928800" y="2858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做一做：做个简单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1295280" y="106668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dd9"/>
                </a:solidFill>
                <a:latin typeface="Arial"/>
              </a:rPr>
              <a:t>思考讨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143000" y="2438280"/>
            <a:ext cx="6934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516ea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怎样用电路检测器检测一个有故障的电路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1000080" y="78588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做一做：做个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2" descr="dianlu2.jpg"/>
          <p:cNvPicPr/>
          <p:nvPr/>
        </p:nvPicPr>
        <p:blipFill>
          <a:blip r:embed="rId2"/>
          <a:stretch/>
        </p:blipFill>
        <p:spPr>
          <a:xfrm>
            <a:off x="1214280" y="1500120"/>
            <a:ext cx="671544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1428840" y="242892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自制的“电路检测器”检测盒子中有故障的电路，并使电路中的小灯泡亮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"/>
          <p:cNvSpPr/>
          <p:nvPr/>
        </p:nvSpPr>
        <p:spPr>
          <a:xfrm>
            <a:off x="571680" y="71424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活动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07:44:47Z</dcterms:created>
  <dc:creator/>
  <dc:description/>
  <dc:language>en-US</dc:language>
  <cp:lastModifiedBy/>
  <dcterms:modified xsi:type="dcterms:W3CDTF">2020-02-15T01:22:35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2000000000001024120</vt:lpwstr>
  </property>
</Properties>
</file>